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E34-0E7D-4EA1-BCCA-53E75DF5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05E-9047-4B49-A95B-7145C845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B86-89BC-4C20-BFDA-F355F7AF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C19C-95CA-4EEF-9E8D-5640F2A9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7CB3-CE83-437C-A212-558DB206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52C-62E7-4333-8252-ABAF9E0C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264-0FE1-47A3-B5DA-B89853C7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9B9-04BB-459D-8E50-0A521075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4E0-76BB-48D1-88DC-4ACFC4C2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287-1C6E-4B13-921A-8E314F33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A25-C788-487E-8873-4E5EC9EB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550-4868-4753-B206-C18F7598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DD44-0554-4C71-A13E-47CCDFC44A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1131840" y="4514760"/>
            <a:ext cx="691344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243000" y="3759120"/>
            <a:ext cx="86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07732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综合性学习  我的语文生活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副标题 2"/>
          <p:cNvSpPr/>
          <p:nvPr/>
        </p:nvSpPr>
        <p:spPr>
          <a:xfrm>
            <a:off x="2438280" y="4583160"/>
            <a:ext cx="3988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七年级下册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95360" y="1011240"/>
            <a:ext cx="80834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个字写错了两个，将“枇杷”误写成“琵琶”。他妻子看过后，在后面题了一首打油诗：枇杷并非此琵琶，只怪当年识字差。倘若琵琶能结果，满城箫鼓尽飞花。这个纨绔子弟看过妻子的题诗，羞了个大红脸。</a:t>
            </a:r>
            <a:endParaRPr b="1" lang="en-US" sz="2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枇杷”和“琵琶”读音相同，但枇杷是水果，而琵琶是弦乐器，二者的意义和写法更是相去甚远。</a:t>
            </a:r>
            <a:endParaRPr b="1" lang="en-US" sz="2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95280" y="1058760"/>
            <a:ext cx="826776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培养课外学习语文的兴趣，养成随时积累语言材料的习惯，激发从生活中学习语文的热情，逐步建立“生活即语文”的大语文观。</a:t>
            </a:r>
            <a:endParaRPr b="1" lang="en-US" sz="2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锤炼语言，学习分析商店招牌、撰写广告词和鉴赏对联，帮助树立“学以致用”的学习观。</a:t>
            </a:r>
            <a:endParaRPr b="1" lang="en-US" sz="2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引导多角度观察生活，发现语文世界丰富多彩的表现形式，培育在生活中学习语文的好品质。</a:t>
            </a:r>
            <a:endParaRPr b="1" lang="en-US" sz="26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5" name="组合 14"/>
          <p:cNvGrpSpPr/>
          <p:nvPr/>
        </p:nvGrpSpPr>
        <p:grpSpPr>
          <a:xfrm>
            <a:off x="0" y="93600"/>
            <a:ext cx="2751120" cy="1103400"/>
            <a:chOff x="0" y="93600"/>
            <a:chExt cx="2751120" cy="1103400"/>
          </a:xfrm>
        </p:grpSpPr>
        <p:pic>
          <p:nvPicPr>
            <p:cNvPr id="46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3600"/>
              <a:ext cx="27511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16"/>
            <p:cNvSpPr/>
            <p:nvPr/>
          </p:nvSpPr>
          <p:spPr>
            <a:xfrm>
              <a:off x="675000" y="3524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目标导航</a:t>
              </a:r>
              <a:endParaRPr b="1" lang="en-US" sz="32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62040" y="1550880"/>
            <a:ext cx="78706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生活中处处有语文。在语文课上学语文当然是主要的，但是也不要忽视在生活中学习语文、运用语文。社会生活给我们的语文学习提供了丰富的资源。语文学习的外延与生活的外延相等，机会无处不在。</a:t>
            </a:r>
            <a:endParaRPr b="1" lang="en-US" sz="26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9" name="组合 14"/>
          <p:cNvGrpSpPr/>
          <p:nvPr/>
        </p:nvGrpSpPr>
        <p:grpSpPr>
          <a:xfrm>
            <a:off x="0" y="93600"/>
            <a:ext cx="2751120" cy="1103400"/>
            <a:chOff x="0" y="93600"/>
            <a:chExt cx="2751120" cy="1103400"/>
          </a:xfrm>
        </p:grpSpPr>
        <p:pic>
          <p:nvPicPr>
            <p:cNvPr id="5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3600"/>
              <a:ext cx="27511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16"/>
            <p:cNvSpPr/>
            <p:nvPr/>
          </p:nvSpPr>
          <p:spPr>
            <a:xfrm>
              <a:off x="675000" y="3524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重点解读</a:t>
              </a:r>
              <a:endParaRPr b="1" lang="en-US" sz="32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11280" y="1419120"/>
            <a:ext cx="808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店的招牌是街市的“眼睛”。好的招牌，能吸引人的注意，还能引起人们购物的兴趣。到街上走走，会看到有的招牌设计比较讲究，风格独特，有浓浓的文化感；有的招牌却比较粗糙，没有特色，存在用字不规范等毛病。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1533600" y="703440"/>
            <a:ext cx="866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正眼看招牌。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95280" y="771480"/>
            <a:ext cx="81853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先</a:t>
            </a:r>
            <a:r>
              <a:rPr b="1" lang="zh-CN" sz="2600" spc="-1" strike="noStrike">
                <a:solidFill>
                  <a:srgbClr val="ff00ff"/>
                </a:solidFill>
                <a:latin typeface="黑体"/>
                <a:ea typeface="黑体"/>
              </a:rPr>
              <a:t>调查访问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可根据各自的兴趣和特长，采用不同的记录形式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文字、绘画、照片、视频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记录下所有商店招牌，现场留意招牌中有无错别字，是否违反书写、拼音的规范等；</a:t>
            </a:r>
            <a:endParaRPr b="1" lang="en-US" sz="26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再</a:t>
            </a:r>
            <a:r>
              <a:rPr b="1" lang="zh-CN" sz="2600" spc="-1" strike="noStrike">
                <a:solidFill>
                  <a:srgbClr val="ff00ff"/>
                </a:solidFill>
                <a:latin typeface="黑体"/>
                <a:ea typeface="黑体"/>
              </a:rPr>
              <a:t>整理交流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将记录下来的招牌进行分类，简要分析各类招牌的语言特点，并就大家公认设计得最好的商店招牌组织讨论，交流体会。</a:t>
            </a:r>
            <a:endParaRPr b="1" lang="en-US" sz="2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5280" y="1093680"/>
            <a:ext cx="8497800" cy="608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回想一下，生活中哪些广告词让你印象深刻？这些广告词的独特之处在哪里？</a:t>
            </a:r>
            <a:r>
              <a:rPr b="1" lang="zh-CN" sz="2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可分小组搜集不同媒体的广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如报纸、杂志、广播、电视、网络、路牌、电子屏幕等，记录下你喜欢的广告词。</a:t>
            </a:r>
            <a:r>
              <a:rPr b="1" lang="zh-CN" sz="2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然后就搜集到的广告词进行讨论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这条广告词的目的是什么？这条广告词是否精彩？精彩在何处？还可模仿优秀广告的语言风格，为自己喜欢的商品或某一公共场所写一则广告词。</a:t>
            </a:r>
            <a:endParaRPr b="1" lang="en-US" sz="2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" name="矩形 1"/>
          <p:cNvSpPr/>
          <p:nvPr/>
        </p:nvSpPr>
        <p:spPr>
          <a:xfrm>
            <a:off x="395280" y="479520"/>
            <a:ext cx="360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我来写广告词。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11280" y="1419120"/>
            <a:ext cx="808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联是我国传统文化的瑰宝，也是活的文化遗产，现在还普遍应用在我们的日常生活中。无论是在名胜古迹，还是市井闾巷，常常会发现对联。这些对联与周围的环境相映成趣，充分体现出了汉字的奥妙、魅力和传统文化的意蕴。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1327680" y="703440"/>
            <a:ext cx="2359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寻找“最美对联”。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11280" y="771480"/>
            <a:ext cx="8083440" cy="24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分小组查找有关对联的资料，了解对联的基本知识，如对联的历史、种类、格律要求等；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发动各小组成员广泛搜集各类对联，分类整理、汇总；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，分享交流，评选出“最美对联”，可细分为“最有趣的对联”“最巧妙的对联”“最长的对联”等。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95360" y="915840"/>
            <a:ext cx="808344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枇杷非琵琶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前，有个纨绔子弟，自幼好吃懒做，不好好念书。长大以后，常因写错别字闹笑话。有一天，他妻子说想吃枇杷。他从桌子上随手拿出一张纸，挥笔在上面写了几个字。写完后便招呼仆人去买枇杷。他妻子接过纸来一看，噗哧一声笑了。原来上面写的是“买琵琶五斤”。</a:t>
            </a:r>
            <a:endParaRPr b="1" lang="en-US" sz="26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1" name="组合 14"/>
          <p:cNvGrpSpPr/>
          <p:nvPr/>
        </p:nvGrpSpPr>
        <p:grpSpPr>
          <a:xfrm>
            <a:off x="0" y="93600"/>
            <a:ext cx="2751120" cy="1103400"/>
            <a:chOff x="0" y="93600"/>
            <a:chExt cx="2751120" cy="1103400"/>
          </a:xfrm>
        </p:grpSpPr>
        <p:pic>
          <p:nvPicPr>
            <p:cNvPr id="6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3600"/>
              <a:ext cx="27511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16"/>
            <p:cNvSpPr/>
            <p:nvPr/>
          </p:nvSpPr>
          <p:spPr>
            <a:xfrm>
              <a:off x="675000" y="3524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故事驿站</a:t>
              </a:r>
              <a:endParaRPr b="1" lang="en-US" sz="32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7T01:26:27Z</dcterms:created>
  <dc:creator/>
  <dc:description/>
  <dc:language>en-US</dc:language>
  <cp:lastModifiedBy>Administrator</cp:lastModifiedBy>
  <dcterms:modified xsi:type="dcterms:W3CDTF">2019-01-07T01:27:42Z</dcterms:modified>
  <cp:revision>7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